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wmf" ContentType="image/x-wmf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667500" cy="9802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828360" y="382176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8135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5780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87240" y="117144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82836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5780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87240" y="3821760"/>
            <a:ext cx="250380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38280" y="37800"/>
            <a:ext cx="5000400" cy="412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813560" y="382176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283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813560" y="1171440"/>
            <a:ext cx="379512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828360" y="3821760"/>
            <a:ext cx="7777080" cy="2419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</a:rPr>
              <a:t>Click to edit the title text format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1" name=""/>
          <p:cNvSpPr/>
          <p:nvPr/>
        </p:nvSpPr>
        <p:spPr>
          <a:xfrm>
            <a:off x="4124160" y="6600960"/>
            <a:ext cx="13287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240760" y="6600960"/>
            <a:ext cx="66816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306360" y="884160"/>
            <a:ext cx="862668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281160" y="6364440"/>
            <a:ext cx="8626320" cy="0"/>
          </a:xfrm>
          <a:prstGeom prst="line">
            <a:avLst/>
          </a:prstGeom>
          <a:ln w="255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828360" y="117144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700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3" marL="187164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4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5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6" marL="2406600" indent="-266760">
              <a:spcBef>
                <a:spcPts val="700"/>
              </a:spcBef>
              <a:buClr>
                <a:srgbClr val="000000"/>
              </a:buClr>
              <a:buFont typeface="Humnst777 Lt BT"/>
              <a:buChar char="–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6" name="" descr=""/>
          <p:cNvPicPr/>
          <p:nvPr/>
        </p:nvPicPr>
        <p:blipFill>
          <a:blip r:embed="rId2">
            <a:lum bright="-100000"/>
          </a:blip>
          <a:stretch/>
        </p:blipFill>
        <p:spPr>
          <a:xfrm>
            <a:off x="7972560" y="257040"/>
            <a:ext cx="657000" cy="54000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3744720" y="6450120"/>
            <a:ext cx="859680" cy="26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080" rIns="82080" tIns="41040" bIns="41040" anchor="b" anchorCtr="1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814320"/>
                <a:tab algn="l" pos="1628640"/>
                <a:tab algn="l" pos="2443320"/>
                <a:tab algn="l" pos="3257640"/>
                <a:tab algn="l" pos="4071960"/>
                <a:tab algn="l" pos="4886280"/>
                <a:tab algn="l" pos="5700600"/>
                <a:tab algn="l" pos="6515280"/>
                <a:tab algn="l" pos="7329600"/>
                <a:tab algn="l" pos="8143920"/>
                <a:tab algn="l" pos="8958240"/>
                <a:tab algn="l" pos="9772560"/>
                <a:tab algn="l" pos="10586880"/>
              </a:tabLst>
            </a:pPr>
            <a:fld id="{A1318203-A3B8-44E9-B2AD-3B9580657BDB}" type="slidenum">
              <a:rPr b="0" lang="zh-CN" sz="1200" spc="-1" strike="noStrike">
                <a:solidFill>
                  <a:srgbClr val="808080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zh-CN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 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45" name=""/>
          <p:cNvSpPr/>
          <p:nvPr/>
        </p:nvSpPr>
        <p:spPr>
          <a:xfrm>
            <a:off x="326880" y="1292400"/>
            <a:ext cx="7777440" cy="165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/>
          </a:bodyPr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Model Validation Repor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marL="401760" indent="-401760" algn="ct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214280" y="4792680"/>
            <a:ext cx="5956560" cy="67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Zheng  Q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宋体"/>
              </a:rPr>
              <a:t>Qzheng@fiberhome.com.c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1303200" y="3065400"/>
            <a:ext cx="5956560" cy="71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Asian IBIS Summit, Shanghai China</a:t>
            </a:r>
            <a:br>
              <a:rPr sz="2000"/>
            </a:br>
            <a:r>
              <a:rPr b="0" i="1" lang="en-US" sz="2000" spc="-1" strike="noStrike">
                <a:solidFill>
                  <a:srgbClr val="000000"/>
                </a:solidFill>
                <a:latin typeface="Times New Roman"/>
                <a:ea typeface="宋体"/>
              </a:rPr>
              <a:t>  October 27, 2006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217440" y="318960"/>
            <a:ext cx="3549600" cy="695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04640" y="104580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Using 4VT  and 2VT tables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428760" y="1827360"/>
            <a:ext cx="7945200" cy="419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81080" y="174600"/>
            <a:ext cx="338904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37760" y="107928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Different V-T data points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736560" y="1771560"/>
            <a:ext cx="7385040" cy="435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75840" y="-360"/>
            <a:ext cx="500076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39560" y="1022400"/>
            <a:ext cx="7777440" cy="4914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Capacitor load (using modified model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598320" y="1701720"/>
            <a:ext cx="7945560" cy="453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59920" y="187200"/>
            <a:ext cx="432612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Good model 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0720" y="103320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99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B model comparison  (good model )</a:t>
            </a:r>
            <a:r>
              <a:rPr b="1" lang="en-US" sz="3200" spc="-1" strike="noStrike">
                <a:solidFill>
                  <a:srgbClr val="ff0000"/>
                </a:solidFill>
                <a:latin typeface="Wingdings"/>
                <a:ea typeface="Wingdings"/>
              </a:rPr>
              <a:t></a:t>
            </a:r>
            <a:endParaRPr b="0" lang="en-US" sz="3200" spc="-1" strike="noStrike">
              <a:solidFill>
                <a:srgbClr val="000000"/>
              </a:solidFill>
              <a:latin typeface="Humnst777 Lt BT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233280" y="1816200"/>
            <a:ext cx="7866000" cy="4437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95200" y="266760"/>
            <a:ext cx="3594240" cy="706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Conclusion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42520" y="116028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The waveform shape (edge and DC Level) are very close between IBIS and Spice simulation when the model is correctly generated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Downloaded models always need careful checking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Package parameters have great impact on waveform quality 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Power pin’s package parameters need more attention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17240" y="1182600"/>
            <a:ext cx="777708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IBIS Models have played an important role in signal integrity analysis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Access  Buffer Characteristics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Buffer’s transition time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driver output impedance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Critical Net  Quality  Check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Incident Voltage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Monotonic 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Timing  Analysis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2" marL="1336680" indent="-266760">
              <a:spcBef>
                <a:spcPts val="499"/>
              </a:spcBef>
              <a:buClr>
                <a:srgbClr val="000000"/>
              </a:buClr>
              <a:buFont typeface="Humnst777 Lt BT"/>
              <a:buChar char="–"/>
              <a:tabLst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Flight Time Calculating  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Power Integrity  Analysis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38280" y="37800"/>
            <a:ext cx="5000400" cy="888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28720" y="1171080"/>
            <a:ext cx="7640640" cy="2181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601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Before playing with IBIS we have to know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499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Humnst777 Lt BT"/>
                <a:ea typeface="宋体"/>
              </a:rPr>
              <a:t>behavioral model concept </a:t>
            </a:r>
            <a:endParaRPr b="0" lang="en-US" sz="2000" spc="-1" strike="noStrike">
              <a:solidFill>
                <a:srgbClr val="000000"/>
              </a:solidFill>
              <a:latin typeface="Humnst777 Lt BT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892080" y="2070000"/>
            <a:ext cx="7035840" cy="4184640"/>
            <a:chOff x="892080" y="2070000"/>
            <a:chExt cx="7035840" cy="4184640"/>
          </a:xfrm>
        </p:grpSpPr>
        <p:graphicFrame>
          <p:nvGraphicFramePr>
            <p:cNvPr id="53" name=""/>
            <p:cNvGraphicFramePr/>
            <p:nvPr/>
          </p:nvGraphicFramePr>
          <p:xfrm>
            <a:off x="892080" y="2070000"/>
            <a:ext cx="7035840" cy="418464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54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892080" y="2070000"/>
                      <a:ext cx="7035840" cy="418464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grpSp>
          <p:nvGrpSpPr>
            <p:cNvPr id="55" name=""/>
            <p:cNvGrpSpPr/>
            <p:nvPr/>
          </p:nvGrpSpPr>
          <p:grpSpPr>
            <a:xfrm>
              <a:off x="5021280" y="2141280"/>
              <a:ext cx="1947960" cy="3592440"/>
              <a:chOff x="5021280" y="2141280"/>
              <a:chExt cx="1947960" cy="3592440"/>
            </a:xfrm>
          </p:grpSpPr>
          <p:sp>
            <p:nvSpPr>
              <p:cNvPr id="56" name=""/>
              <p:cNvSpPr/>
              <p:nvPr/>
            </p:nvSpPr>
            <p:spPr>
              <a:xfrm flipH="1">
                <a:off x="5098680" y="2536560"/>
                <a:ext cx="584280" cy="1542960"/>
              </a:xfrm>
              <a:prstGeom prst="line">
                <a:avLst/>
              </a:prstGeom>
              <a:ln w="28440">
                <a:solidFill>
                  <a:srgbClr val="ff0000"/>
                </a:solidFill>
                <a:miter/>
                <a:tailEnd len="med" type="arrow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5021280" y="2361960"/>
                <a:ext cx="22320" cy="3371760"/>
              </a:xfrm>
              <a:prstGeom prst="line">
                <a:avLst/>
              </a:prstGeom>
              <a:ln w="38160">
                <a:solidFill>
                  <a:srgbClr val="ff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5119560" y="2141280"/>
                <a:ext cx="184968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50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2400" spc="-1" strike="noStrike">
                    <a:solidFill>
                      <a:srgbClr val="ff0000"/>
                    </a:solidFill>
                    <a:latin typeface="Times New Roman"/>
                    <a:ea typeface="宋体"/>
                  </a:rPr>
                  <a:t>Check point</a:t>
                </a: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6000" y="163440"/>
            <a:ext cx="460044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3200" spc="-1" strike="noStrike">
                <a:solidFill>
                  <a:srgbClr val="000ab0"/>
                </a:solidFill>
                <a:latin typeface="Humnst777 BT"/>
                <a:ea typeface="宋体"/>
              </a:rPr>
              <a:t>overview</a:t>
            </a:r>
            <a:endParaRPr b="0" lang="en-US" sz="32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15720" y="114912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Model Validation (Comparison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With &amp; without Package parameter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Spice model  Vs  IBIS model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R-fixture comparison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Test fixture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50</a:t>
            </a:r>
            <a:r>
              <a:rPr b="0" lang="el-GR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 Resistor Load to GND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0pf  Capacitor load to GND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lnSpc>
                <a:spcPct val="90000"/>
              </a:lnSpc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Model (original model from </a:t>
            </a:r>
            <a:r>
              <a:rPr b="0" i="1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 company 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Push-pull clock buffer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R+1F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R_fixture = 0.50k</a:t>
            </a:r>
            <a:r>
              <a:rPr b="0" lang="el-GR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Ω</a:t>
            </a: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777960" y="1789200"/>
            <a:ext cx="7338960" cy="432252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17160" y="312480"/>
            <a:ext cx="5000760" cy="649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Spice model simulation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15720" y="1045800"/>
            <a:ext cx="777708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emoving package parameter first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64" name=""/>
          <p:cNvSpPr/>
          <p:nvPr/>
        </p:nvSpPr>
        <p:spPr>
          <a:xfrm>
            <a:off x="1314360" y="4413240"/>
            <a:ext cx="47912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10pf loa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宋体"/>
              </a:rPr>
              <a:t>Package parameter compari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" descr=""/>
          <p:cNvPicPr/>
          <p:nvPr/>
        </p:nvPicPr>
        <p:blipFill>
          <a:blip r:embed="rId1"/>
          <a:stretch/>
        </p:blipFill>
        <p:spPr>
          <a:xfrm>
            <a:off x="1047600" y="2387520"/>
            <a:ext cx="6558120" cy="395604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16000" y="474840"/>
            <a:ext cx="5356080" cy="466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Spice model  Vs  IBIS model</a:t>
            </a:r>
            <a:br>
              <a:rPr sz="2800"/>
            </a:b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69720" y="102204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Original IBIS model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1R+1F &amp;  R_fixture = 0.50KΩ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  <a:p>
            <a:pPr lvl="1" marL="870120" indent="-335160">
              <a:spcBef>
                <a:spcPts val="601"/>
              </a:spcBef>
              <a:buClr>
                <a:srgbClr val="000000"/>
              </a:buClr>
              <a:buFont typeface="Humnst777 Lt BT"/>
              <a:buChar char="•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Humnst777 Lt BT"/>
                <a:ea typeface="宋体"/>
              </a:rPr>
              <a:t>Using 50Ω load for test </a:t>
            </a:r>
            <a:endParaRPr b="0" lang="en-US" sz="24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68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38240" y="176040"/>
            <a:ext cx="500040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adjusting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28760" y="1126800"/>
            <a:ext cx="836136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dd two V-T curves  ( 2R + 2F 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-fixture changed to 50Ω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Add More points on V-T curves (lower timestep)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  <p:sp>
        <p:nvSpPr>
          <p:cNvPr id="72" name=""/>
          <p:cNvSpPr/>
          <p:nvPr/>
        </p:nvSpPr>
        <p:spPr>
          <a:xfrm>
            <a:off x="0" y="23385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3" name=""/>
          <p:cNvGraphicFramePr/>
          <p:nvPr/>
        </p:nvGraphicFramePr>
        <p:xfrm>
          <a:off x="352440" y="3171960"/>
          <a:ext cx="3848040" cy="2295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52440" y="3171960"/>
                    <a:ext cx="3848040" cy="2295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75" name="" descr=""/>
          <p:cNvPicPr/>
          <p:nvPr/>
        </p:nvPicPr>
        <p:blipFill>
          <a:blip r:embed="rId3"/>
          <a:stretch/>
        </p:blipFill>
        <p:spPr>
          <a:xfrm>
            <a:off x="4321080" y="3144960"/>
            <a:ext cx="4583160" cy="289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" descr=""/>
          <p:cNvPicPr/>
          <p:nvPr/>
        </p:nvPicPr>
        <p:blipFill>
          <a:blip r:embed="rId1"/>
          <a:stretch/>
        </p:blipFill>
        <p:spPr>
          <a:xfrm>
            <a:off x="450720" y="2270160"/>
            <a:ext cx="7850160" cy="401796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58400" y="163440"/>
            <a:ext cx="3583080" cy="889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20560" y="1171440"/>
            <a:ext cx="7777440" cy="5073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Rising edge matched very well 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No different between 2VT and 4VT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" descr=""/>
          <p:cNvPicPr/>
          <p:nvPr/>
        </p:nvPicPr>
        <p:blipFill>
          <a:blip r:embed="rId1"/>
          <a:stretch/>
        </p:blipFill>
        <p:spPr>
          <a:xfrm>
            <a:off x="934920" y="2238480"/>
            <a:ext cx="6942240" cy="4039920"/>
          </a:xfrm>
          <a:prstGeom prst="rect">
            <a:avLst/>
          </a:prstGeom>
          <a:ln w="0">
            <a:noFill/>
          </a:ln>
        </p:spPr>
      </p:pic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2240" y="255600"/>
            <a:ext cx="4039920" cy="6825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Model test</a:t>
            </a:r>
            <a:r>
              <a:rPr b="0" lang="en-US" sz="2800" spc="-1" strike="noStrike">
                <a:solidFill>
                  <a:srgbClr val="000ab0"/>
                </a:solidFill>
                <a:latin typeface="Humnst777 BT"/>
                <a:ea typeface="宋体"/>
              </a:rPr>
              <a:t>	</a:t>
            </a:r>
            <a:endParaRPr b="0" lang="en-US" sz="2800" spc="-1" strike="noStrike">
              <a:solidFill>
                <a:srgbClr val="000ab0"/>
              </a:solidFill>
              <a:latin typeface="Humnst777 BT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880" y="1022040"/>
            <a:ext cx="7777440" cy="5073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4VT Falling edge match good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-401760">
              <a:spcBef>
                <a:spcPts val="700"/>
              </a:spcBef>
              <a:buClr>
                <a:srgbClr val="000ab0"/>
              </a:buClr>
              <a:buFont typeface="Wingdings" charset="2"/>
              <a:buChar char=""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2VT Falling time degrading (460ps </a:t>
            </a:r>
            <a:r>
              <a:rPr b="0" lang="en-US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000000"/>
                </a:solidFill>
                <a:latin typeface="Humnst777 Lt BT"/>
                <a:ea typeface="宋体"/>
              </a:rPr>
              <a:t> 750ps) </a:t>
            </a: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  <a:p>
            <a:pPr marL="401760" indent="0">
              <a:spcBef>
                <a:spcPts val="700"/>
              </a:spcBef>
              <a:buNone/>
              <a:tabLst>
                <a:tab algn="l" pos="892080"/>
                <a:tab algn="l" pos="1784520"/>
                <a:tab algn="l" pos="2676600"/>
                <a:tab algn="l" pos="3568680"/>
                <a:tab algn="l" pos="4460760"/>
                <a:tab algn="l" pos="5353200"/>
                <a:tab algn="l" pos="6245280"/>
                <a:tab algn="l" pos="7137360"/>
                <a:tab algn="l" pos="8029440"/>
                <a:tab algn="l" pos="8921880"/>
                <a:tab algn="l" pos="9813960"/>
                <a:tab algn="l" pos="10706040"/>
              </a:tabLst>
            </a:pPr>
            <a:endParaRPr b="0" lang="en-US" sz="2800" spc="-1" strike="noStrike">
              <a:solidFill>
                <a:srgbClr val="000000"/>
              </a:solidFill>
              <a:latin typeface="Humnst777 Lt B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8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2-16T10:01:32Z</dcterms:created>
  <dc:creator>qzheng</dc:creator>
  <dc:description/>
  <dc:language>en-US</dc:language>
  <cp:lastModifiedBy>Bob Ross</cp:lastModifiedBy>
  <cp:lastPrinted>1999-03-03T12:32:42Z</cp:lastPrinted>
  <dcterms:modified xsi:type="dcterms:W3CDTF">2006-09-26T04:33:31Z</dcterms:modified>
  <cp:revision>645</cp:revision>
  <dc:subject/>
  <dc:title>ibis summit fiberhome</dc:title>
</cp:coreProperties>
</file>