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667500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777708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8360" y="3821760"/>
            <a:ext cx="777708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35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8360" y="382176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3560" y="382176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57800" y="117144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7240" y="117144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8360" y="382176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57800" y="382176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7240" y="382176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8360" y="1171440"/>
            <a:ext cx="7777080" cy="50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777708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379512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3560" y="1171440"/>
            <a:ext cx="379512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38280" y="37800"/>
            <a:ext cx="5000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3560" y="1171440"/>
            <a:ext cx="379512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8360" y="382176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379512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35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3560" y="382176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35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8360" y="3821760"/>
            <a:ext cx="777708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</a:rPr>
              <a:t>Click to edit the title text format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1" name=""/>
          <p:cNvSpPr/>
          <p:nvPr/>
        </p:nvSpPr>
        <p:spPr>
          <a:xfrm>
            <a:off x="4124160" y="6600960"/>
            <a:ext cx="1328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240760" y="6600960"/>
            <a:ext cx="668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6360" y="884160"/>
            <a:ext cx="862668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81160" y="6364440"/>
            <a:ext cx="862632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828360" y="1171440"/>
            <a:ext cx="777708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700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2" marL="1336680" indent="-266760">
              <a:spcBef>
                <a:spcPts val="700"/>
              </a:spcBef>
              <a:buClr>
                <a:srgbClr val="000000"/>
              </a:buClr>
              <a:buFont typeface="Humnst777 Lt BT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3" marL="1871640" indent="-266760">
              <a:spcBef>
                <a:spcPts val="700"/>
              </a:spcBef>
              <a:buClr>
                <a:srgbClr val="000000"/>
              </a:buClr>
              <a:buFont typeface="Humnst777 Lt BT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4" marL="2406600" indent="-266760">
              <a:spcBef>
                <a:spcPts val="700"/>
              </a:spcBef>
              <a:buClr>
                <a:srgbClr val="000000"/>
              </a:buClr>
              <a:buFont typeface="Humnst777 Lt BT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5" marL="2406600" indent="-266760">
              <a:spcBef>
                <a:spcPts val="700"/>
              </a:spcBef>
              <a:buClr>
                <a:srgbClr val="000000"/>
              </a:buClr>
              <a:buFont typeface="Humnst777 Lt BT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6" marL="2406600" indent="-266760">
              <a:spcBef>
                <a:spcPts val="700"/>
              </a:spcBef>
              <a:buClr>
                <a:srgbClr val="000000"/>
              </a:buClr>
              <a:buFont typeface="Humnst777 Lt BT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>
            <a:lum bright="-100000"/>
          </a:blip>
          <a:stretch/>
        </p:blipFill>
        <p:spPr>
          <a:xfrm>
            <a:off x="7972560" y="257040"/>
            <a:ext cx="657000" cy="5400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744720" y="6450120"/>
            <a:ext cx="8596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48A28C95-F619-448D-980A-664D03D17B26}" type="slidenum">
              <a:rPr b="0" lang="zh-CN" sz="1200" spc="-1" strike="noStrike">
                <a:solidFill>
                  <a:srgbClr val="80808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zh-CN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 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1292400"/>
            <a:ext cx="777744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Humnst777 Lt BT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Humnst777 Lt BT"/>
                <a:ea typeface="宋体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Humnst777 Lt BT"/>
                <a:ea typeface="宋体"/>
              </a:rPr>
              <a:t>IBIS Model Validation Re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4280" y="4792680"/>
            <a:ext cx="59565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Zheng  Q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Qzheng@fiberhome.com.c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03200" y="3065400"/>
            <a:ext cx="59565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sian IBIS Summit, Shanghai China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  October 27, 200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7440" y="318960"/>
            <a:ext cx="3549600" cy="69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Model test</a:t>
            </a: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	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04640" y="1045800"/>
            <a:ext cx="777744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Using 4VT  and 2VT tables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28760" y="1827360"/>
            <a:ext cx="7945200" cy="41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1080" y="174600"/>
            <a:ext cx="338904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Model test</a:t>
            </a: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	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37760" y="1079280"/>
            <a:ext cx="777708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Different V-T data points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36560" y="1771560"/>
            <a:ext cx="7385040" cy="43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5840" y="-360"/>
            <a:ext cx="500076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Model test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9560" y="1022400"/>
            <a:ext cx="7777440" cy="49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Capacitor load (using modified model)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98320" y="1701720"/>
            <a:ext cx="7945560" cy="45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9920" y="187200"/>
            <a:ext cx="432612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Good model 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0720" y="1033200"/>
            <a:ext cx="777744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99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B model comparison  (good model )</a:t>
            </a:r>
            <a:r>
              <a:rPr b="1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</a:t>
            </a:r>
            <a:endParaRPr b="0" lang="en-US" sz="3200" spc="-1" strike="noStrike">
              <a:solidFill>
                <a:srgbClr val="000000"/>
              </a:solidFill>
              <a:latin typeface="Humnst777 Lt BT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33280" y="1816200"/>
            <a:ext cx="78660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5200" y="266760"/>
            <a:ext cx="3594240" cy="70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Conclusion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42520" y="1160280"/>
            <a:ext cx="777708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The waveform shape (edge and DC Level) are very close between IBIS and Spice simulation when the model is correctly generated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Downloaded models always need careful checking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Package parameters have great impact on waveform quality 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Power pin’s package parameters need more attention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overview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7240" y="1182600"/>
            <a:ext cx="777708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IBIS Models have played an important role in signal integrity analysis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Access  Buffer Characteristics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2" marL="1336680" indent="-266760">
              <a:spcBef>
                <a:spcPts val="499"/>
              </a:spcBef>
              <a:buClr>
                <a:srgbClr val="000000"/>
              </a:buClr>
              <a:buFont typeface="Humnst777 Lt BT"/>
              <a:buChar char="–"/>
              <a:tabLst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Lt BT"/>
                <a:ea typeface="宋体"/>
              </a:rPr>
              <a:t>Buffer’s transition time </a:t>
            </a:r>
            <a:endParaRPr b="0" lang="en-US" sz="2000" spc="-1" strike="noStrike">
              <a:solidFill>
                <a:srgbClr val="000000"/>
              </a:solidFill>
              <a:latin typeface="Humnst777 Lt BT"/>
            </a:endParaRPr>
          </a:p>
          <a:p>
            <a:pPr lvl="2" marL="1336680" indent="-266760">
              <a:spcBef>
                <a:spcPts val="499"/>
              </a:spcBef>
              <a:buClr>
                <a:srgbClr val="000000"/>
              </a:buClr>
              <a:buFont typeface="Humnst777 Lt BT"/>
              <a:buChar char="–"/>
              <a:tabLst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Lt BT"/>
                <a:ea typeface="宋体"/>
              </a:rPr>
              <a:t>driver output impedance</a:t>
            </a:r>
            <a:endParaRPr b="0" lang="en-US" sz="20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Critical Net  Quality  Check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2" marL="1336680" indent="-266760">
              <a:spcBef>
                <a:spcPts val="499"/>
              </a:spcBef>
              <a:buClr>
                <a:srgbClr val="000000"/>
              </a:buClr>
              <a:buFont typeface="Humnst777 Lt BT"/>
              <a:buChar char="–"/>
              <a:tabLst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Lt BT"/>
                <a:ea typeface="宋体"/>
              </a:rPr>
              <a:t>Incident Voltage  </a:t>
            </a:r>
            <a:endParaRPr b="0" lang="en-US" sz="2000" spc="-1" strike="noStrike">
              <a:solidFill>
                <a:srgbClr val="000000"/>
              </a:solidFill>
              <a:latin typeface="Humnst777 Lt BT"/>
            </a:endParaRPr>
          </a:p>
          <a:p>
            <a:pPr lvl="2" marL="1336680" indent="-266760">
              <a:spcBef>
                <a:spcPts val="499"/>
              </a:spcBef>
              <a:buClr>
                <a:srgbClr val="000000"/>
              </a:buClr>
              <a:buFont typeface="Humnst777 Lt BT"/>
              <a:buChar char="–"/>
              <a:tabLst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Lt BT"/>
                <a:ea typeface="宋体"/>
              </a:rPr>
              <a:t>Monotonic   </a:t>
            </a:r>
            <a:endParaRPr b="0" lang="en-US" sz="20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Timing  Analysis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2" marL="1336680" indent="-266760">
              <a:spcBef>
                <a:spcPts val="499"/>
              </a:spcBef>
              <a:buClr>
                <a:srgbClr val="000000"/>
              </a:buClr>
              <a:buFont typeface="Humnst777 Lt BT"/>
              <a:buChar char="–"/>
              <a:tabLst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Lt BT"/>
                <a:ea typeface="宋体"/>
              </a:rPr>
              <a:t>Flight Time Calculating   </a:t>
            </a:r>
            <a:endParaRPr b="0" lang="en-US" sz="20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Power Integrity  Analysis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overview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8720" y="1171080"/>
            <a:ext cx="7640640" cy="21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601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Before playing with IBIS we have to know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499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Lt BT"/>
                <a:ea typeface="宋体"/>
              </a:rPr>
              <a:t>behavioral model concept </a:t>
            </a:r>
            <a:endParaRPr b="0" lang="en-US" sz="2000" spc="-1" strike="noStrike">
              <a:solidFill>
                <a:srgbClr val="000000"/>
              </a:solidFill>
              <a:latin typeface="Humnst777 Lt BT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892080" y="2070000"/>
            <a:ext cx="7035840" cy="4184640"/>
            <a:chOff x="892080" y="2070000"/>
            <a:chExt cx="7035840" cy="4184640"/>
          </a:xfrm>
        </p:grpSpPr>
        <p:graphicFrame>
          <p:nvGraphicFramePr>
            <p:cNvPr id="53" name=""/>
            <p:cNvGraphicFramePr/>
            <p:nvPr/>
          </p:nvGraphicFramePr>
          <p:xfrm>
            <a:off x="892080" y="2070000"/>
            <a:ext cx="7035840" cy="4184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92080" y="2070000"/>
                      <a:ext cx="7035840" cy="418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5" name=""/>
            <p:cNvGrpSpPr/>
            <p:nvPr/>
          </p:nvGrpSpPr>
          <p:grpSpPr>
            <a:xfrm>
              <a:off x="5021280" y="2141280"/>
              <a:ext cx="1947960" cy="3592440"/>
              <a:chOff x="5021280" y="2141280"/>
              <a:chExt cx="1947960" cy="3592440"/>
            </a:xfrm>
          </p:grpSpPr>
          <p:sp>
            <p:nvSpPr>
              <p:cNvPr id="56" name=""/>
              <p:cNvSpPr/>
              <p:nvPr/>
            </p:nvSpPr>
            <p:spPr>
              <a:xfrm flipH="1">
                <a:off x="5098680" y="2536560"/>
                <a:ext cx="584280" cy="1542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021280" y="2361960"/>
                <a:ext cx="22320" cy="3371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119560" y="2141280"/>
                <a:ext cx="1849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Check poi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6000" y="163440"/>
            <a:ext cx="460044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3200" spc="-1" strike="noStrike">
                <a:solidFill>
                  <a:srgbClr val="000ab0"/>
                </a:solidFill>
                <a:latin typeface="Humnst777 BT"/>
                <a:ea typeface="宋体"/>
              </a:rPr>
              <a:t>overview</a:t>
            </a:r>
            <a:endParaRPr b="0" lang="en-US" sz="32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15720" y="1149120"/>
            <a:ext cx="777708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lnSpc>
                <a:spcPct val="9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Model Validation (Comparison)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With &amp; without Package parameter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Spice model  Vs  IBIS model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R-fixture comparison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lnSpc>
                <a:spcPct val="9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Test fixture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50</a:t>
            </a:r>
            <a:r>
              <a:rPr b="0" lang="el-GR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 Resistor Load to GND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10pf  Capacitor load to GND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lnSpc>
                <a:spcPct val="9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Model (original model from </a:t>
            </a:r>
            <a:r>
              <a:rPr b="0" i="1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 company )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Push-pull clock buffer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1R+1F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R_fixture = 0.50k</a:t>
            </a:r>
            <a:r>
              <a:rPr b="0" lang="el-GR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77960" y="1789200"/>
            <a:ext cx="7338960" cy="43225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7160" y="312480"/>
            <a:ext cx="5000760" cy="64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Spice model simulation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5720" y="1045800"/>
            <a:ext cx="777708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Removing package parameter first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64" name=""/>
          <p:cNvSpPr/>
          <p:nvPr/>
        </p:nvSpPr>
        <p:spPr>
          <a:xfrm>
            <a:off x="1314360" y="4413240"/>
            <a:ext cx="4791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pf lo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kage parameter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47600" y="2387520"/>
            <a:ext cx="6558120" cy="39560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6000" y="474840"/>
            <a:ext cx="5356080" cy="46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Spice model  Vs  IBIS model</a:t>
            </a:r>
            <a:br>
              <a:rPr sz="2800"/>
            </a:b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9720" y="1022040"/>
            <a:ext cx="777744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Original IBIS model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1R+1F &amp;  R_fixture = 0.50KΩ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Using 50Ω load for test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8240" y="176040"/>
            <a:ext cx="500040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Model adjusting</a:t>
            </a: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	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8760" y="1126800"/>
            <a:ext cx="836136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Add two V-T curves  ( 2R + 2F )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R-fixture changed to 50Ω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Add More points on V-T curves (lower timestep)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52440" y="3171960"/>
          <a:ext cx="3848040" cy="22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440" y="3171960"/>
                    <a:ext cx="384804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321080" y="3144960"/>
            <a:ext cx="458316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0720" y="2270160"/>
            <a:ext cx="7850160" cy="40179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8400" y="163440"/>
            <a:ext cx="358308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Model test</a:t>
            </a: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	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20560" y="1171440"/>
            <a:ext cx="777744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Rising edge matched very well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No different between 2VT and 4VT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34920" y="2238480"/>
            <a:ext cx="6942240" cy="40399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2240" y="255600"/>
            <a:ext cx="4039920" cy="68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Model test</a:t>
            </a: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	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022040"/>
            <a:ext cx="777744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4VT Falling edge match good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2VT Falling time degrading (460p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 750ps)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6T10:01:32Z</dcterms:created>
  <dc:creator>qzheng</dc:creator>
  <dc:description/>
  <dc:language>en-US</dc:language>
  <cp:lastModifiedBy>Bob Ross</cp:lastModifiedBy>
  <cp:lastPrinted>1999-03-03T12:32:42Z</cp:lastPrinted>
  <dcterms:modified xsi:type="dcterms:W3CDTF">2006-09-26T04:33:31Z</dcterms:modified>
  <cp:revision>645</cp:revision>
  <dc:subject/>
  <dc:title>ibis summit fiberhome</dc:title>
</cp:coreProperties>
</file>