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8360" y="382176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35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780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724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836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780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724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8280" y="37800"/>
            <a:ext cx="5000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35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Click to edit the title text format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" name=""/>
          <p:cNvSpPr/>
          <p:nvPr/>
        </p:nvSpPr>
        <p:spPr>
          <a:xfrm>
            <a:off x="4124160" y="6600960"/>
            <a:ext cx="132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40760" y="6600960"/>
            <a:ext cx="668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6360" y="884160"/>
            <a:ext cx="862668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1160" y="6364440"/>
            <a:ext cx="862632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700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3" marL="187164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4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5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6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7972560" y="257040"/>
            <a:ext cx="657000" cy="5400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744720" y="6450120"/>
            <a:ext cx="85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DB44DE0-FE8A-444D-82F1-3EA9096B60D1}" type="slidenum">
              <a:rPr b="0" lang="zh-CN" sz="1200" spc="-1" strike="noStrike">
                <a:solidFill>
                  <a:srgbClr val="80808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zh-CN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 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1292400"/>
            <a:ext cx="777744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Model Validation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4280" y="4792680"/>
            <a:ext cx="5956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Zheng  Q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zheng@fiberhome.com.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03200" y="3065400"/>
            <a:ext cx="59565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sian IBIS Summit, Shanghai Chin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 October 27, 200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7440" y="318960"/>
            <a:ext cx="35496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4640" y="104580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Using 4VT  and 2VT tables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28760" y="1827360"/>
            <a:ext cx="7945200" cy="41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1080" y="174600"/>
            <a:ext cx="338904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7760" y="107928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Different V-T data points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6560" y="1771560"/>
            <a:ext cx="738504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5840" y="-360"/>
            <a:ext cx="500076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9560" y="1022400"/>
            <a:ext cx="7777440" cy="49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Capacitor load (using modified model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98320" y="1701720"/>
            <a:ext cx="794556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9920" y="187200"/>
            <a:ext cx="432612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Good model 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720" y="103320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99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B model comparison  (good model )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</a:t>
            </a:r>
            <a:endParaRPr b="0" lang="en-US" sz="32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3280" y="1816200"/>
            <a:ext cx="7866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5200" y="266760"/>
            <a:ext cx="359424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Conclusion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42520" y="116028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The waveform shape (edge and DC Level) are very close between IBIS and Spice simulation when the model is correctly generated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Downloaded models always need careful checking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Package parameters have great impact on waveform quality 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Power pin’s package parameters need more attention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7240" y="118260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Models have played an important role in signal integrity analysis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Access  Buffer Characteristics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Buffer’s transition time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driver output impedance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Critical Net  Quality  Check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Incident Voltage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Monotonic 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Timing  Analysis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Flight Time Calculating 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Power Integrity  Analysis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8720" y="1171080"/>
            <a:ext cx="764064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601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Before playing with IBIS we have to know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499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behavioral model concept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92080" y="2070000"/>
            <a:ext cx="7035840" cy="4184640"/>
            <a:chOff x="892080" y="2070000"/>
            <a:chExt cx="7035840" cy="4184640"/>
          </a:xfrm>
        </p:grpSpPr>
        <p:graphicFrame>
          <p:nvGraphicFramePr>
            <p:cNvPr id="53" name=""/>
            <p:cNvGraphicFramePr/>
            <p:nvPr/>
          </p:nvGraphicFramePr>
          <p:xfrm>
            <a:off x="892080" y="2070000"/>
            <a:ext cx="7035840" cy="418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92080" y="2070000"/>
                      <a:ext cx="7035840" cy="418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5" name=""/>
            <p:cNvGrpSpPr/>
            <p:nvPr/>
          </p:nvGrpSpPr>
          <p:grpSpPr>
            <a:xfrm>
              <a:off x="5021280" y="2141280"/>
              <a:ext cx="1947960" cy="3592440"/>
              <a:chOff x="5021280" y="2141280"/>
              <a:chExt cx="1947960" cy="359244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5098680" y="2536560"/>
                <a:ext cx="584280" cy="1542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021280" y="2361960"/>
                <a:ext cx="22320" cy="3371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19560" y="2141280"/>
                <a:ext cx="184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Check poi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6000" y="163440"/>
            <a:ext cx="460044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32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32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5720" y="114912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Model Validation (Comparison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With &amp; without Package parameter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Spice model  Vs  IBIS model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R-fixture comparison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Test fixture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50</a:t>
            </a:r>
            <a:r>
              <a:rPr b="0" lang="el-GR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Resistor Load to GND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0pf  Capacitor load to GND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Model (original model from </a:t>
            </a:r>
            <a:r>
              <a:rPr b="0" i="1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 company 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Push-pull clock buffer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R+1F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R_fixture = 0.50k</a:t>
            </a:r>
            <a:r>
              <a:rPr b="0" lang="el-GR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77960" y="1789200"/>
            <a:ext cx="7338960" cy="4322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312480"/>
            <a:ext cx="500076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Spice model simulation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5720" y="104580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emoving package parameter first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4" name=""/>
          <p:cNvSpPr/>
          <p:nvPr/>
        </p:nvSpPr>
        <p:spPr>
          <a:xfrm>
            <a:off x="1314360" y="4413240"/>
            <a:ext cx="4791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pf lo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kage parameter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7600" y="2387520"/>
            <a:ext cx="6558120" cy="395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6000" y="474840"/>
            <a:ext cx="5356080" cy="4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Spice model  Vs  IBIS model</a:t>
            </a:r>
            <a:br>
              <a:rPr sz="2800"/>
            </a:b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9720" y="102204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Original IBIS model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R+1F &amp;  R_fixture = 0.50KΩ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Using 50Ω load for test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8240" y="176040"/>
            <a:ext cx="5000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adjusting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126800"/>
            <a:ext cx="8361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dd two V-T curves  ( 2R + 2F 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-fixture changed to 50Ω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dd More points on V-T curves (lower timestep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2440" y="3171960"/>
          <a:ext cx="384804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3171960"/>
                    <a:ext cx="38480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321080" y="3144960"/>
            <a:ext cx="45831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0720" y="2270160"/>
            <a:ext cx="7850160" cy="4017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8400" y="163440"/>
            <a:ext cx="358308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20560" y="117144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ising edge matched very well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No different between 2VT and 4VT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34920" y="2238480"/>
            <a:ext cx="6942240" cy="4039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2240" y="255600"/>
            <a:ext cx="4039920" cy="6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02204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4VT Falling edge match good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2VT Falling time degrading (460p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 750ps)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6T10:01:32Z</dcterms:created>
  <dc:creator>qzheng</dc:creator>
  <dc:description/>
  <dc:language>en-US</dc:language>
  <cp:lastModifiedBy>Bob Ross</cp:lastModifiedBy>
  <cp:lastPrinted>1999-03-03T12:32:42Z</cp:lastPrinted>
  <dcterms:modified xsi:type="dcterms:W3CDTF">2006-09-26T04:33:31Z</dcterms:modified>
  <cp:revision>645</cp:revision>
  <dc:subject/>
  <dc:title>ibis summit fiberhome</dc:title>
</cp:coreProperties>
</file>